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E7236-A8EA-4C9E-AD2F-C9C758635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BC8B9-39CA-44A0-954F-EC8F48208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2B588-F458-413C-9CDB-F79CE15FF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2195B-5DE8-4B3E-883F-0CEF2BA3F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5FC2C-EF94-4C21-866F-7CE94D785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8C317-ADFC-475A-AF90-5D30E11A9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1DE03-EFF8-4760-AECF-9B4B5F9EA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28B4F-BB7A-4A97-91C0-93E18D979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E6700-B4D2-43D2-9AF4-A0C632B10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CC125-A987-4DA1-AE7F-44233805B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693EB-BC47-4737-A377-5F168B714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ECD2F-5D86-468A-9B4E-4EDF27904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C2140-5C14-45EA-B726-8FC459461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E3B61-B676-4466-AC68-51AA986B2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111CA-0ADD-4030-9987-686EC27EA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55818-A034-44B6-9690-1F7ACAFD0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4859D-8CC4-409E-948E-A85F374E6C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E971F-813B-4C8D-A746-AE2869DEE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2368B-B4AD-40C3-8EB2-2F8BE4204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5B5CE-078D-4211-9690-E2F0C4FB5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691B5-BDCB-43E3-A099-B6F4C7609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BADA3-288E-4E9E-B7DE-900C10AB9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14F51-2CBF-4697-BE16-619E5EBCD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787EB-E15B-4225-9E87-56244B822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DFAF-F954-4A1B-9A13-84AF422D72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3B94-1AB7-49D1-A10B-ACDFE5CF70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hapter 1: A Healthy Foundation</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2: Influences on Your Heal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ELL ACTIVITY</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do the people around me affect my health?</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affects your health?</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oices you make and the ways you think and act have a strong effect on your total health.</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the parts of your life over which you have quite a bit of control.</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make the best choices, you’ll need to understand what these factors are and what you can do about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utting the Puzzle Together</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person is an individua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ife unfolds in its own way, guided and molded by both personal choices and outside fa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eredity and Environment</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Heredity:</a:t>
            </a:r>
            <a:r>
              <a:rPr b="0" lang="en-US" sz="3200" spc="-1" strike="noStrike">
                <a:solidFill>
                  <a:srgbClr val="ffffff"/>
                </a:solidFill>
                <a:latin typeface="Arial"/>
              </a:rPr>
              <a:t> the passing on of traits from biological parents to children.</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traits passed on through heredity are:</a:t>
            </a:r>
            <a:endParaRPr b="0" lang="en-US" sz="3200" spc="-1" strike="noStrike">
              <a:solidFill>
                <a:srgbClr val="ffffff"/>
              </a:solidFill>
              <a:latin typeface="Arial"/>
            </a:endParaRPr>
          </a:p>
          <a:p>
            <a:pPr lvl="1" marL="735480" indent="-28296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 eye, and hair color.</a:t>
            </a:r>
            <a:endParaRPr b="0" lang="en-US" sz="2800" spc="-1" strike="noStrike">
              <a:solidFill>
                <a:srgbClr val="ffffff"/>
              </a:solidFill>
              <a:latin typeface="Arial"/>
            </a:endParaRPr>
          </a:p>
          <a:p>
            <a:pPr lvl="1" marL="735480" indent="-28296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dy Build</a:t>
            </a:r>
            <a:endParaRPr b="0" lang="en-US" sz="2800" spc="-1" strike="noStrike">
              <a:solidFill>
                <a:srgbClr val="ffffff"/>
              </a:solidFill>
              <a:latin typeface="Arial"/>
            </a:endParaRPr>
          </a:p>
          <a:p>
            <a:pPr lvl="1" marL="735480" indent="-28296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th patterns</a:t>
            </a:r>
            <a:endParaRPr b="0" lang="en-US" sz="2800" spc="-1" strike="noStrike">
              <a:solidFill>
                <a:srgbClr val="ffffff"/>
              </a:solidFill>
              <a:latin typeface="Arial"/>
            </a:endParaRPr>
          </a:p>
          <a:p>
            <a:pPr lvl="1" marL="735480" indent="-28296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ndency to get certain dis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eredity traits are…</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ilt in” – you can’t choose them!</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If your family has a history of high numbers of dental cavities, you should pay extra attention to your dental c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re About Heredity</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around the world have undertaken an extensive exploration of the genetic factors that contribute to human development. The U.S. Department of Energy and the National Institutes of Health are coordinating the </a:t>
            </a:r>
            <a:r>
              <a:rPr b="1" lang="en-US" sz="2400" spc="-1" strike="noStrike">
                <a:solidFill>
                  <a:srgbClr val="ffff66"/>
                </a:solidFill>
                <a:latin typeface="Arial"/>
              </a:rPr>
              <a:t>Human Genome Project</a:t>
            </a:r>
            <a:r>
              <a:rPr b="0" lang="en-US" sz="2400" spc="-1" strike="noStrike">
                <a:solidFill>
                  <a:srgbClr val="ffffff"/>
                </a:solidFill>
                <a:latin typeface="Arial"/>
              </a:rPr>
              <a:t>, a 15-year effort to identify and map all the genes on every chromosome in the human body. (The term genome refers to all the genetic material in the chromosomes of a particular organism.) The U.S. project is part of a worldwide investigation into genetics. Over 1,000 scientists representing more than 50 countries are members of the Human Genome Organization (HUGO). Thus fart, results of these studies indicate that there may be a specific gene for nearly every human abil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nvironment…</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Environment</a:t>
            </a:r>
            <a:r>
              <a:rPr b="0" lang="en-US" sz="3200" spc="-1" strike="noStrike">
                <a:solidFill>
                  <a:srgbClr val="ffffff"/>
                </a:solidFill>
                <a:latin typeface="Arial"/>
              </a:rPr>
              <a:t> is all the living and nonliving things that surround you. </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home, neighborhood, and school.</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ir you breathe and the water you drin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osing Questions/Review</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terms heredity and environmen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how you can use information about hereditary traits to make health decision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ree factors, other than heredity and physical environment, that can have an influence on a person’s health.</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there laws about allowable levels of environmental poll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18:01:35Z</dcterms:created>
  <dc:creator>GSCS</dc:creator>
  <dc:description/>
  <dc:language>en-US</dc:language>
  <cp:lastModifiedBy>GSCS</cp:lastModifiedBy>
  <dcterms:modified xsi:type="dcterms:W3CDTF">2010-09-21T12:44:33Z</dcterms:modified>
  <cp:revision>5</cp:revision>
  <dc:subject/>
  <dc:title>Chapter 1: A Healthy Foundation</dc:title>
</cp:coreProperties>
</file>